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44BB1-2940-4009-AC41-BD0008F44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malia: Life expectancy=48, infant mortality=above 10%, average annual income is $600US, predominantly agricultural ec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who were executed in 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sident Clinton with Secretary of State Madeline Albright (L)…Clinton speaking from the White House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being forced from their homes in Koso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Kosovo that shows troop representation from different countries. The US wasn’t the only country that sent troops to help the Albanians(as you can se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liban fighters in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ck of stability, tribal affiliations and competition for natural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80s—Civil war as result of insurgent attempts a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0s—Widespread drough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nited Nations sends i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2—Clan violence threatens relief efforts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-led coalition force including 30,000 US military personnel and 10,000 from allied nations, “Operation Restore Hop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bined, the war and drought resulted in the death of 300,0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IGHT) Army Rangers “fast rope” down from a Blackhawk helicopter in Som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ene from movie “Blackhawk Down” which chronicles US involvement in Somalia. This scene parallels the reading you can hand out to students.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map of Yugoslavia and Kosov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3C9-1931-4562-9762-6E215889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E21-133E-4E04-8513-2F646E4A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122-A4E8-4A17-886D-A4265A4B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D15-9A43-4423-AA0D-A3912787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EB9-7801-43FE-BE27-1C3586C9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56D-20FD-4223-BBDD-C2AE0371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9A5-F5E8-4782-A3A2-99201025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DE8-548D-4542-9ACB-787F3D68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C44-5CC3-4EF8-863C-5292C570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014-CE8B-45EE-AC03-A4B5D0B4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609-3AEA-4C22-9D25-601B450B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BDC-20FF-49D4-B12E-3C5A9E3B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2765A-07C4-4F6F-BAA6-AF2084C5E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216400" cy="6248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3157560" cy="323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609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Somal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86400" cy="32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4785120"/>
            <a:ext cx="7871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Just imagine if the leaders back then had acted wisely and early enough, how many lives could have been saved.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153280" cy="5503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33000" y="284040"/>
            <a:ext cx="89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Serbian response = Expelled Albanian population at gun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080" y="-1690560"/>
            <a:ext cx="8835840" cy="1024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7360" y="914400"/>
            <a:ext cx="5411520" cy="5791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64240" y="152280"/>
            <a:ext cx="29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MT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97200" y="2371680"/>
            <a:ext cx="5341680" cy="1684440"/>
            <a:chOff x="1897200" y="2371680"/>
            <a:chExt cx="5341680" cy="1684440"/>
          </a:xfrm>
        </p:grpSpPr>
        <p:sp>
          <p:nvSpPr>
            <p:cNvPr id="87" name=""/>
            <p:cNvSpPr/>
            <p:nvPr/>
          </p:nvSpPr>
          <p:spPr>
            <a:xfrm>
              <a:off x="1897200" y="2371680"/>
              <a:ext cx="5341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7200" y="2381400"/>
              <a:ext cx="520524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8760" y="1965240"/>
            <a:ext cx="6532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Public executions and punish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4640" y="1066680"/>
            <a:ext cx="57798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Banned TV, music, and intern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6760" y="2955960"/>
            <a:ext cx="5385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Men required to have bear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440" y="3870360"/>
            <a:ext cx="6935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Forbade women from going to scho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4800600"/>
            <a:ext cx="8677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barred from working outside the h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02600" y="5715000"/>
            <a:ext cx="94665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couldn’t leave home without a male rel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28600"/>
            <a:ext cx="2379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doni MT"/>
              </a:rPr>
              <a:t>The Tali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50840"/>
            <a:ext cx="297180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5280" y="3722760"/>
          <a:ext cx="8520120" cy="2906640"/>
        </p:xfrm>
        <a:graphic>
          <a:graphicData uri="http://schemas.openxmlformats.org/drawingml/2006/table">
            <a:tbl>
              <a:tblPr/>
              <a:tblGrid>
                <a:gridCol w="8520120"/>
              </a:tblGrid>
              <a:tr h="290664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international terrorist group known as al-Qaeda took credit for the terrorist attacks on September 11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intelligence learns that al-Qaeda was operating training camps in Afghanistan, and that its leader, Osama bin Laden, was living the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iban leadership refuses to hand over bin Laden to the United States, so the U.S. Invades Afghanistan in October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b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90720"/>
            <a:ext cx="59436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3b"/>
                    </a:gs>
                    <a:gs pos="50000">
                      <a:srgbClr val="000080"/>
                    </a:gs>
                    <a:gs pos="100000">
                      <a:srgbClr val="00003b"/>
                    </a:gs>
                  </a:gsLst>
                  <a:lin ang="5400000"/>
                </a:gradFill>
                <a:latin typeface="Bodoni MT Black"/>
              </a:rPr>
              <a:t>U.S. Interven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3b"/>
                  </a:gs>
                  <a:gs pos="50000">
                    <a:srgbClr val="000080"/>
                  </a:gs>
                  <a:gs pos="100000">
                    <a:srgbClr val="00003b"/>
                  </a:gs>
                </a:gsLst>
                <a:lin ang="5400000"/>
              </a:gradFill>
              <a:latin typeface="Bodoni MT Black"/>
              <a:ea typeface="Bodoni MT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352520" y="205416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October 2001 -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514600"/>
            <a:ext cx="8229600" cy="52146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Taliban regime removed from power in Kabul (the capital) but they remain powerful in some regions of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l-Qaeda leaves Afghanistan but remains active els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in Laden killed by U.S. troops in neighboring Pakistan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Nearly 2,200 U.S. military deaths, and the UN estimates up to 50,000 Afghani de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960" y="392040"/>
            <a:ext cx="866808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419720" cy="327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20" y="5332320"/>
            <a:ext cx="91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Operation Restore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30,000 American military personnel + 10,000 from allied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13372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52480" y="685800"/>
            <a:ext cx="26575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Fam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0080" y="826920"/>
            <a:ext cx="4876920" cy="392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01320" y="2286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1992-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800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29 Americans are killed, and nearly 100 seriously wo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While conditions connected to the famine improv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olitical instability remains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3543480" cy="324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533520"/>
            <a:ext cx="4538520" cy="94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2311e"/>
                </a:solidFill>
                <a:latin typeface="Bodoni MT Black"/>
              </a:rPr>
              <a:t>Rwan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2311e"/>
              </a:solidFill>
              <a:latin typeface="Bodoni MT Black"/>
              <a:ea typeface="Bodoni MT Black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666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Hutu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ajority, minimal politic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9112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Tutsi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inority, historically i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507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1840" y="380880"/>
            <a:ext cx="871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ithin 100 days, nearly 1 million people were kill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295280"/>
            <a:ext cx="7696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Bodoni MT"/>
              </a:rPr>
              <a:t>Genocide</a:t>
            </a: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 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acts committed with intent to destroy, in whole or in part, a national, ethnical, racial or religious group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6280" y="487692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doni MT"/>
              </a:rPr>
              <a:t>What was the United States’ respo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778880" cy="7924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248520" y="274320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Book Antiqua"/>
              </a:rPr>
              <a:t>Kosov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Book Antiqua"/>
              <a:ea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3434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Within Kosov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90% Alban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&lt;10% S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322520" cy="568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27920" y="60948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bodan Milosev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1:05:17Z</dcterms:created>
  <dc:creator>peronto's</dc:creator>
  <dc:description/>
  <dc:language>en-US</dc:language>
  <cp:lastModifiedBy>Dominic Lambek</cp:lastModifiedBy>
  <dcterms:modified xsi:type="dcterms:W3CDTF">2010-05-24T14:32:23Z</dcterms:modified>
  <cp:revision>13</cp:revision>
  <dc:subject/>
  <dc:title>PowerPoint Presentation</dc:title>
</cp:coreProperties>
</file>